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F96-606C-4EF3-B689-267EBF1A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CBA-A288-4568-966D-D5AAADB1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8E9-11C6-491F-95BC-D5095484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F49-872A-4751-9AD5-D8B3FAF9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EB65-F75B-4CE9-8F89-0D5180A8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6189-559E-49E5-AF81-FEE8E05D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01B-0918-4279-877D-C3F3C888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A2B3-3D45-4A4D-8129-EE7DE386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6D32-D514-495B-8D14-5C0D997C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20BC-A53F-41FA-8B9C-18214E67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389B-012E-45C1-9390-64514E5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39E-665D-4985-B721-D138EF5D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04F3-A452-4926-BF8F-01818D0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CF26-8C9F-45A7-BED3-0763A481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2A36-3E58-4AFC-B732-FAB0BB2C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4EA0-3151-4510-83CC-E55BE07E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68F8-C7C8-4997-B3ED-B46AEC18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36A-1124-40D2-92AF-357441B2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533-3610-4753-86D5-F11124CC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EFD-7075-4496-86EA-BD10777F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8DD-DAC5-4C1D-9721-9D323B4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0A8-6F67-402F-A127-22EAB83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45D-60B5-4399-B961-80DBEC6F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379-2BEB-4A73-A7B8-23D8C15A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0937-D713-47A3-B88F-8A0C3597D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267B-9A4B-4C0B-9384-4F800BA3B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llying And How It Affects Stud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avier C. Li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E08C-3D42-425E-B232-A8466B9DCBB9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audience members will be able to tell where it takes place, who’s in it, what it’s about, and who’s around when it happe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I will show how people bu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I will show, how to prevent bully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Then then I will put it all together than Their will be a bully and the person being the bystander will do the right t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explain why people bully and what people who see it do. Teachers, Students, And other people will see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be special because it will tell you how to stop bullying when you see it happ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show it in middle scho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51:20Z</dcterms:created>
  <dc:creator/>
  <dc:description/>
  <dc:language>en-US</dc:language>
  <cp:lastModifiedBy>City School</cp:lastModifiedBy>
  <dcterms:modified xsi:type="dcterms:W3CDTF">2013-02-20T19:14:08Z</dcterms:modified>
  <cp:revision>39</cp:revision>
  <dc:subject/>
  <dc:title>The Pitch-Then-Plan Business Planning Template</dc:title>
</cp:coreProperties>
</file>